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62D-FD7B-4D2B-9BE0-BB2C5575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1F04-080A-4FEE-9E9C-9802BC30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37F-72A7-40EE-8ED3-06D072EE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DC59-C11C-468D-8543-8D3F48F8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A719-02AD-4D05-B671-D6AC4EE5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F2DD-B052-4A77-87B6-0FC88B11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9EA3-FF5B-4470-BF17-357364B4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C037-A53B-4781-BAE2-F4EA08F1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5CDA-124B-453A-8049-90E1D0D1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D8F1-770B-483D-9A13-6A68CFD6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F230-6B41-47F2-A021-DD866FD7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44A-80B6-4C1F-96D9-D05C23B5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8745-154B-43AA-B392-1655B14B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6B66-6FB6-487F-B533-2E6FBDB6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EB76-59F5-423D-B0F6-112F7DB2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D61F-3AE5-4419-BAB5-86402D38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DD5A-6006-4550-B3A8-765A1D7E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180DC-CD5D-427C-9BF2-512ADE62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856D7-8F68-4D38-913A-EB90007F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EC903-DA64-47C5-A91D-C490D7D1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FF89B-9B12-4056-9093-2D5949CC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D331A-4413-458B-90DA-99A30BC2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668-D45E-436B-88F0-E6B8FBB1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9DDBE-507B-4800-83B4-BD32668A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849DB-1F94-4D66-8D43-28FD2860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C3312-1D11-4139-89F3-94E1D4A1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BAE8D-55E2-4D09-8FA5-C7BDCD65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C3E8D-FC57-48F0-920B-BBF3A9B9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096F4-91BB-4C28-9217-10F91FAC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EEB76-33BB-49A3-B7B8-CBD95D8F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80760-85D2-4366-9977-268BB1F8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16C06-71F4-4394-86D6-76430C98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553FA-813C-4220-86F3-AAF056FB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858-3742-42F2-9667-C7E2AE5F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C27A2-6A18-487A-B917-50C2A863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E6DF7-AAF9-4E37-8070-65527290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BBB07-9686-4474-990F-37F516F3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C1BC9-2B74-49A4-AAC7-6904DDD7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5F861-AF6F-4A79-A1C1-9111AA19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11FCE-C5C8-4B4D-8D70-25E6FA40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18C6F-4596-41FB-B4A9-1A44CCA4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9F4A1-AB53-4068-9F51-44AC2F92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210D1-94C3-47C4-80A7-DA8B759F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91A4E-1BFB-4A81-9183-5F98771A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8FC-035C-4523-BBC6-7DB28CB8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84069-9D6B-4BB0-8135-1DEB0B18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5D018-A98C-4EBA-B823-A7B5704C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5EBA3-9281-4EB1-8E46-13504E05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D1A82-402B-498B-B374-79FFCB3B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8DF89-A1AE-4A69-9466-4AE0E166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34084-D2B3-4BC6-ACBD-137C93F3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158A2-7B08-4C14-9BAC-C5687AFE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966BC-7F7D-4075-8961-F389C46E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7BB62-C135-4CAF-AB43-8E802029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8E5B0-2EBD-4D3F-BEC7-AE876335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59B-BF8A-4889-B165-7550600E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532D3-6103-47E3-8DE7-0C16CE03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05A-93C7-4600-B93C-50C23E61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2F53-0CF9-42DD-A20F-FDE30ADE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98F-864B-48F8-8F25-F4022852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CD5F-019C-42D4-81D5-E80FFB08B34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CC67-8DC6-4DAC-90EE-F0FFC82298B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D75E-4436-414B-9640-B8A53E5B236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4F96-3D0E-4B70-A1A2-64FE5EFED341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7FBA-50A0-465E-BE50-5AE8BB695EA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40080" y="512640"/>
            <a:ext cx="5413320" cy="2919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gradFill rotWithShape="0">
            <a:gsLst>
              <a:gs pos="0">
                <a:srgbClr val="e7a492"/>
              </a:gs>
              <a:gs pos="100000">
                <a:srgbClr val="f07b54"/>
              </a:gs>
            </a:gsLst>
            <a:lin ang="5400000"/>
          </a:gradFill>
          <a:ln w="11520">
            <a:solidFill>
              <a:srgbClr val="de6c36"/>
            </a:solidFill>
            <a:miter/>
          </a:ln>
          <a:effectLst>
            <a:outerShdw dist="25560" dir="5400000" blurRad="0" rotWithShape="0">
              <a:srgbClr val="873f1d">
                <a:alpha val="83000"/>
              </a:srgbClr>
            </a:outerShdw>
          </a:effectLst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rebuchet MS"/>
              </a:rPr>
              <a:t>Маугл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52280" y="428760"/>
            <a:ext cx="77425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000680" y="428760"/>
            <a:ext cx="3781080" cy="561960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4"/>
          <p:cNvSpPr/>
          <p:nvPr/>
        </p:nvSpPr>
        <p:spPr>
          <a:xfrm>
            <a:off x="214200" y="714240"/>
            <a:ext cx="35006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жозеф Редьярд Киплинг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0 декабря 1865 –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8 января1936 (70 лет) – британский автор и поэт. Наиболее известные: сборник рассказов который включает «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Рикки-Тикки-Тав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(1901) (сказка приключения), «Маугли»- сказк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28760" y="343080"/>
            <a:ext cx="75960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493560" y="428760"/>
            <a:ext cx="728208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642960" y="109440"/>
            <a:ext cx="72262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714240" y="142920"/>
            <a:ext cx="72993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785880" y="355680"/>
            <a:ext cx="7041960" cy="60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785880" y="347760"/>
            <a:ext cx="72104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14200" y="193680"/>
            <a:ext cx="753264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Station</cp:lastModifiedBy>
  <dcterms:modified xsi:type="dcterms:W3CDTF">2010-02-16T18:07:07Z</dcterms:modified>
  <cp:revision>14</cp:revision>
  <dc:subject/>
  <dc:title>Ричард Киплинг</dc:title>
</cp:coreProperties>
</file>